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BDC5-13DC-4946-9963-7D39C17F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526-61E3-4A44-8E3A-194B09A4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2DE-5E6A-47EE-B712-6D24112E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194C-9226-4CA8-8EA1-4E47C9EA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7671C-EB36-4C5A-BD48-5B8A2DDC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0E8B6-DA69-4F12-8A48-8216A5F7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14E34-2BA4-4266-8083-BA89ADC3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D9B53-ED50-456A-83B5-9970FE46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C5B3A-4F1C-4039-A358-2F790E2B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E7B2B-A9B6-4D4B-A37A-6C763DBD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03EBA-70FC-4A23-AF40-73C4E559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C1D-3EC0-49EB-BC0F-FC2C0570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3DD76-C8D8-442C-964F-A20D205D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D83BB-63C7-4A4A-8DAF-E9714D2B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4B861-CFDF-47F8-8A39-5A215096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0F411-AE87-4CB3-AD19-0FABAA34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C964D-84FB-4879-ABE7-BB9CD4D5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52ED3-BE82-45EC-8B4C-A6330C4A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F0DC9-5885-4018-B47A-4DACA42C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DDD76-DCCF-4EA1-ABF2-AE83A260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2CC05-F559-422C-914E-718BCD2E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0F0E2-2A60-45A0-A40B-B52B640E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57BD-D542-4DA2-9DA3-F2FDF575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1345D-8E94-43B2-9FE5-BBCEA08D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E46BA-89DD-4F83-8C7F-ECDF3FB7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C2463-5430-47DA-9D07-70A115BC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22983-565B-451E-922E-D9C80C5B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9A0CB-A3F7-458C-B65F-470BC3FE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6E3E0-9635-4D25-81E2-9CD8E8C5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40006-F3FD-42FC-8E7A-DDFDB838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95A50-F101-4F5C-819F-2C5FCD2C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BEBAA-823F-4F82-9A0C-0B871B5D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CBCC2-EB3D-4BCC-852B-C52ACE5C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CDE3-E4D4-49AD-9301-EB528A42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B7CF8-1FF9-43E2-A7D1-7C5C4CE9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ADCD7-B718-4FFE-BB1C-3C099E3C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43239-C146-4408-AADC-B9F48D2D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23340-3A37-45D1-BEC8-6D548E73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D4A46-17FB-4705-ABA4-C114BD12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65B2E-1641-4440-8D4A-C8F3EC22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F8F31-029E-44CA-AB64-B1AC98F3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2EC46-AD6D-46C6-8A1E-225182DE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EA1EE-6C14-44FA-958D-54FECE74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7CA8-C7AA-416B-B30E-876BAB07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C61-D575-4B52-8C1B-4418F3D3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B26-3B19-4631-BB6E-DC9C91C5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714-12FC-4F99-8CF8-7363289E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D92-85F2-48FE-93CF-F70B9D63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DAE6-281E-4ED1-91D2-F6EAF0CF9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2575-396A-4ED2-845E-4064C7DABA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F29A-7797-4F46-BDF6-A73BE60DF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3EB2-1572-4B2B-9054-AABE246757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http://www.spanishdict.com/translate/jugo" TargetMode="External"/><Relationship Id="rId7" Type="http://schemas.openxmlformats.org/officeDocument/2006/relationships/hyperlink" Target="http://www.spanishdict.com/translate/de" TargetMode="External"/><Relationship Id="rId8" Type="http://schemas.openxmlformats.org/officeDocument/2006/relationships/hyperlink" Target="http://www.spanishdict.com/translate/naranja" TargetMode="External"/><Relationship Id="rId9" Type="http://schemas.openxmlformats.org/officeDocument/2006/relationships/hyperlink" Target="http://www.spanishdict.com/translate/gofre" TargetMode="External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Las comid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justin bour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desayun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 el desyuno me gusta com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77760" y="46080"/>
            <a:ext cx="2676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77760" y="46080"/>
            <a:ext cx="2676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3400560" y="2681280"/>
            <a:ext cx="2342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3400560" y="2681280"/>
            <a:ext cx="2342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77760" y="46080"/>
            <a:ext cx="23432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471840" y="2695680"/>
            <a:ext cx="22003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3471840" y="2695680"/>
            <a:ext cx="22003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4267080" y="51055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20"/>
          <p:cNvSpPr/>
          <p:nvPr/>
        </p:nvSpPr>
        <p:spPr>
          <a:xfrm>
            <a:off x="77760" y="46080"/>
            <a:ext cx="22003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2"/>
          <p:cNvSpPr/>
          <p:nvPr/>
        </p:nvSpPr>
        <p:spPr>
          <a:xfrm>
            <a:off x="3990960" y="2652840"/>
            <a:ext cx="116208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24"/>
          <p:cNvSpPr/>
          <p:nvPr/>
        </p:nvSpPr>
        <p:spPr>
          <a:xfrm>
            <a:off x="77760" y="46080"/>
            <a:ext cx="11620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3990960" y="2652840"/>
            <a:ext cx="116208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28"/>
          <p:cNvSpPr/>
          <p:nvPr/>
        </p:nvSpPr>
        <p:spPr>
          <a:xfrm>
            <a:off x="3538440" y="2652840"/>
            <a:ext cx="206712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30"/>
          <p:cNvSpPr/>
          <p:nvPr/>
        </p:nvSpPr>
        <p:spPr>
          <a:xfrm>
            <a:off x="77760" y="46080"/>
            <a:ext cx="2067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32"/>
          <p:cNvSpPr/>
          <p:nvPr/>
        </p:nvSpPr>
        <p:spPr>
          <a:xfrm>
            <a:off x="3471840" y="2695680"/>
            <a:ext cx="22003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34"/>
          <p:cNvSpPr/>
          <p:nvPr/>
        </p:nvSpPr>
        <p:spPr>
          <a:xfrm>
            <a:off x="3471840" y="2695680"/>
            <a:ext cx="22003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36"/>
          <p:cNvSpPr/>
          <p:nvPr/>
        </p:nvSpPr>
        <p:spPr>
          <a:xfrm>
            <a:off x="3471840" y="2695680"/>
            <a:ext cx="22003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38" descr="Waffles"/>
          <p:cNvPicPr/>
          <p:nvPr/>
        </p:nvPicPr>
        <p:blipFill>
          <a:blip r:embed="rId1"/>
          <a:stretch/>
        </p:blipFill>
        <p:spPr>
          <a:xfrm>
            <a:off x="0" y="2743200"/>
            <a:ext cx="2438280" cy="1627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0" descr="20090723cereal"/>
          <p:cNvPicPr/>
          <p:nvPr/>
        </p:nvPicPr>
        <p:blipFill>
          <a:blip r:embed="rId2"/>
          <a:stretch/>
        </p:blipFill>
        <p:spPr>
          <a:xfrm>
            <a:off x="3886200" y="2362320"/>
            <a:ext cx="1488960" cy="2276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2" descr="42279-bagels"/>
          <p:cNvPicPr/>
          <p:nvPr/>
        </p:nvPicPr>
        <p:blipFill>
          <a:blip r:embed="rId3"/>
          <a:stretch/>
        </p:blipFill>
        <p:spPr>
          <a:xfrm>
            <a:off x="6400800" y="2286000"/>
            <a:ext cx="2543040" cy="2033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4" descr="amazing_fun_weird_cool_3267513438_77f6a7c3cb_o_20090724184340569"/>
          <p:cNvPicPr/>
          <p:nvPr/>
        </p:nvPicPr>
        <p:blipFill>
          <a:blip r:embed="rId4"/>
          <a:stretch/>
        </p:blipFill>
        <p:spPr>
          <a:xfrm>
            <a:off x="6553080" y="5181480"/>
            <a:ext cx="1619280" cy="1443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6" descr="orange-juice342101"/>
          <p:cNvPicPr/>
          <p:nvPr/>
        </p:nvPicPr>
        <p:blipFill>
          <a:blip r:embed="rId5"/>
          <a:stretch/>
        </p:blipFill>
        <p:spPr>
          <a:xfrm>
            <a:off x="380880" y="480060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7"/>
          <p:cNvSpPr/>
          <p:nvPr/>
        </p:nvSpPr>
        <p:spPr>
          <a:xfrm>
            <a:off x="2971800" y="6019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jug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nara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8"/>
          <p:cNvSpPr/>
          <p:nvPr/>
        </p:nvSpPr>
        <p:spPr>
          <a:xfrm>
            <a:off x="0" y="22096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9"/>
          <p:cNvSpPr/>
          <p:nvPr/>
        </p:nvSpPr>
        <p:spPr>
          <a:xfrm>
            <a:off x="228600" y="2438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gof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0"/>
          <p:cNvSpPr/>
          <p:nvPr/>
        </p:nvSpPr>
        <p:spPr>
          <a:xfrm>
            <a:off x="3352680" y="4800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whea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51"/>
          <p:cNvSpPr/>
          <p:nvPr/>
        </p:nvSpPr>
        <p:spPr>
          <a:xfrm>
            <a:off x="4876920" y="4876920"/>
            <a:ext cx="2133360" cy="366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53"/>
          <p:cNvSpPr/>
          <p:nvPr/>
        </p:nvSpPr>
        <p:spPr>
          <a:xfrm>
            <a:off x="4956840" y="624852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anque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4"/>
          <p:cNvSpPr/>
          <p:nvPr/>
        </p:nvSpPr>
        <p:spPr>
          <a:xfrm>
            <a:off x="7242480" y="4419720"/>
            <a:ext cx="134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osqui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almuerz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 el almuerzo me gusta com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3" name="Picture 5" descr="1212435355_c38a6840c6"/>
          <p:cNvPicPr/>
          <p:nvPr/>
        </p:nvPicPr>
        <p:blipFill>
          <a:blip r:embed="rId1"/>
          <a:stretch/>
        </p:blipFill>
        <p:spPr>
          <a:xfrm>
            <a:off x="228600" y="2286000"/>
            <a:ext cx="2685960" cy="2079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grilledcheese"/>
          <p:cNvPicPr/>
          <p:nvPr/>
        </p:nvPicPr>
        <p:blipFill>
          <a:blip r:embed="rId2"/>
          <a:stretch/>
        </p:blipFill>
        <p:spPr>
          <a:xfrm>
            <a:off x="3505320" y="2362320"/>
            <a:ext cx="2652480" cy="201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chicken%20soup(1)"/>
          <p:cNvPicPr/>
          <p:nvPr/>
        </p:nvPicPr>
        <p:blipFill>
          <a:blip r:embed="rId3"/>
          <a:stretch/>
        </p:blipFill>
        <p:spPr>
          <a:xfrm>
            <a:off x="6858000" y="2286000"/>
            <a:ext cx="1886040" cy="1879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Fresh%20Fruit%20Cup"/>
          <p:cNvPicPr/>
          <p:nvPr/>
        </p:nvPicPr>
        <p:blipFill>
          <a:blip r:embed="rId4"/>
          <a:stretch/>
        </p:blipFill>
        <p:spPr>
          <a:xfrm>
            <a:off x="762120" y="472428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13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17" descr="lemonade_honeycitrus"/>
          <p:cNvPicPr/>
          <p:nvPr/>
        </p:nvPicPr>
        <p:blipFill>
          <a:blip r:embed="rId5"/>
          <a:stretch/>
        </p:blipFill>
        <p:spPr>
          <a:xfrm>
            <a:off x="4876920" y="4419720"/>
            <a:ext cx="1657080" cy="220968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2"/>
          <p:cNvSpPr/>
          <p:nvPr/>
        </p:nvSpPr>
        <p:spPr>
          <a:xfrm>
            <a:off x="914400" y="6324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fru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7010280" y="41911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sopa de po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609480" y="4495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boccidi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6629400" y="6095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limon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16"/>
          <p:cNvSpPr/>
          <p:nvPr/>
        </p:nvSpPr>
        <p:spPr>
          <a:xfrm>
            <a:off x="3657600" y="4572000"/>
            <a:ext cx="106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queso a la planc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ce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 la cena me gust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7" name="Picture 5" descr="http://images-partners-tbn.google.com/images?q=tbn:ANd9GcRk5qar1f8CC7-xZzNOvbKEoJI_wI50JJ8NPJjJs35J9scPzDqksPzAgQ:www.thegutsygourmet.net/spaghetti.gif"/>
          <p:cNvPicPr/>
          <p:nvPr/>
        </p:nvPicPr>
        <p:blipFill>
          <a:blip r:embed="rId1"/>
          <a:stretch/>
        </p:blipFill>
        <p:spPr>
          <a:xfrm>
            <a:off x="609480" y="2362320"/>
            <a:ext cx="1828800" cy="1547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http://images-partners-tbn.google.com/images?q=tbn:ANd9GcQ2J89JW6yRzhLVHanD-9WNdXl2E0_oK1lPNIX2Gde_rTGYWK12m_-io5A:www.thisblogrules.com/wp-content/uploads/2010/12/club-sandwhich.jpg"/>
          <p:cNvPicPr/>
          <p:nvPr/>
        </p:nvPicPr>
        <p:blipFill>
          <a:blip r:embed="rId2"/>
          <a:stretch/>
        </p:blipFill>
        <p:spPr>
          <a:xfrm>
            <a:off x="3657600" y="2362320"/>
            <a:ext cx="1905120" cy="1447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http://images-partners-tbn.google.com/images?q=tbn:ANd9GcRjVoeIyJXE-wosa25C84d74qONsCNPHdVnVoQZpme4CSJgxw7AU4Ehrg:www.steakeaters.com/wp-content/uploads/2010/05/flat-iron-steak.jpg"/>
          <p:cNvPicPr/>
          <p:nvPr/>
        </p:nvPicPr>
        <p:blipFill>
          <a:blip r:embed="rId3"/>
          <a:stretch/>
        </p:blipFill>
        <p:spPr>
          <a:xfrm>
            <a:off x="685800" y="4724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http://images-partners-tbn.google.com/images?q=tbn:ANd9GcTvRKHMJC0horcjxVBMA-FBF4Jh7JYhIZI_NEvy8GoFSkI4NOCovsmvnY0:blogs.knoxnews.com/knx/brown/Dr%252BPepper%252B20%252BOZ.jpg"/>
          <p:cNvPicPr/>
          <p:nvPr/>
        </p:nvPicPr>
        <p:blipFill>
          <a:blip r:embed="rId4"/>
          <a:stretch/>
        </p:blipFill>
        <p:spPr>
          <a:xfrm>
            <a:off x="6019920" y="4419720"/>
            <a:ext cx="657000" cy="17589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0"/>
          <p:cNvSpPr/>
          <p:nvPr/>
        </p:nvSpPr>
        <p:spPr>
          <a:xfrm>
            <a:off x="3733920" y="3886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bodill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11"/>
          <p:cNvSpPr/>
          <p:nvPr/>
        </p:nvSpPr>
        <p:spPr>
          <a:xfrm>
            <a:off x="838080" y="64771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bift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685800" y="39625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espague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6019920" y="62485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 pep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15" descr="oscars_bbq_ribs.jpg"/>
          <p:cNvPicPr/>
          <p:nvPr/>
        </p:nvPicPr>
        <p:blipFill>
          <a:blip r:embed="rId5"/>
          <a:stretch/>
        </p:blipFill>
        <p:spPr>
          <a:xfrm>
            <a:off x="6019920" y="1676520"/>
            <a:ext cx="2635200" cy="19047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7"/>
          <p:cNvSpPr/>
          <p:nvPr/>
        </p:nvSpPr>
        <p:spPr>
          <a:xfrm>
            <a:off x="6172200" y="3581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costil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04:00Z</dcterms:created>
  <dc:creator>bourquejus</dc:creator>
  <dc:description/>
  <dc:language>en-US</dc:language>
  <cp:lastModifiedBy>Owner</cp:lastModifiedBy>
  <dcterms:modified xsi:type="dcterms:W3CDTF">2011-04-26T00:44:49Z</dcterms:modified>
  <cp:revision>6</cp:revision>
  <dc:subject/>
  <dc:title>Las comidas</dc:title>
</cp:coreProperties>
</file>